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5.jpeg" ContentType="image/jpeg"/>
  <Override PartName="/ppt/media/image53.wmf" ContentType="image/x-wmf"/>
  <Override PartName="/ppt/media/image52.jpeg" ContentType="image/jpeg"/>
  <Override PartName="/ppt/media/image1.png" ContentType="image/png"/>
  <Override PartName="/ppt/media/image51.jpeg" ContentType="image/jpeg"/>
  <Override PartName="/ppt/media/image49.wmf" ContentType="image/x-wmf"/>
  <Override PartName="/ppt/media/image48.jpeg" ContentType="image/jpeg"/>
  <Override PartName="/ppt/media/image34.wmf" ContentType="image/x-wmf"/>
  <Override PartName="/ppt/media/image14.wmf" ContentType="image/x-wmf"/>
  <Override PartName="/ppt/media/image27.wmf" ContentType="image/x-wmf"/>
  <Override PartName="/ppt/media/image41.jpeg" ContentType="image/jpeg"/>
  <Override PartName="/ppt/media/image15.wmf" ContentType="image/x-wmf"/>
  <Override PartName="/ppt/media/image20.jpeg" ContentType="image/jpeg"/>
  <Override PartName="/ppt/media/image59.wmf" ContentType="image/x-wmf"/>
  <Override PartName="/ppt/media/image21.jpeg" ContentType="image/jpeg"/>
  <Override PartName="/ppt/media/image16.png" ContentType="image/png"/>
  <Override PartName="/ppt/media/image6.jpeg" ContentType="image/jpeg"/>
  <Override PartName="/ppt/media/image58.wmf" ContentType="image/x-wmf"/>
  <Override PartName="/ppt/media/image65.wmf" ContentType="image/x-wmf"/>
  <Override PartName="/ppt/media/image62.jpeg" ContentType="image/jpeg"/>
  <Override PartName="/ppt/media/image11.wmf" ContentType="image/x-wmf"/>
  <Override PartName="/ppt/media/image61.wmf" ContentType="image/x-wmf"/>
  <Override PartName="/ppt/media/image64.jpeg" ContentType="image/jpeg"/>
  <Override PartName="/ppt/media/image29.wmf" ContentType="image/x-wmf"/>
  <Override PartName="/ppt/media/image63.wmf" ContentType="image/x-wmf"/>
  <Override PartName="/ppt/media/image26.wmf" ContentType="image/x-wmf"/>
  <Override PartName="/ppt/media/image60.wmf" ContentType="image/x-wmf"/>
  <Override PartName="/ppt/media/image2.jpeg" ContentType="image/jpeg"/>
  <Override PartName="/ppt/media/image25.jpeg" ContentType="image/jpeg"/>
  <Override PartName="/ppt/media/image23.jpeg" ContentType="image/jpeg"/>
  <Override PartName="/ppt/media/image32.wmf" ContentType="image/x-wmf"/>
  <Override PartName="/ppt/media/image22.jpeg" ContentType="image/jpeg"/>
  <Override PartName="/ppt/media/image4.wmf" ContentType="image/x-wmf"/>
  <Override PartName="/ppt/media/image66.jpeg" ContentType="image/jpeg"/>
  <Override PartName="/ppt/media/image67.png" ContentType="image/png"/>
  <Override PartName="/ppt/media/image24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37.wmf" ContentType="image/x-wmf"/>
  <Override PartName="/ppt/media/image12.jpeg" ContentType="image/jpe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50.jpeg" ContentType="image/jpeg"/>
  <Override PartName="/ppt/media/image17.wmf" ContentType="image/x-wmf"/>
  <Override PartName="/ppt/media/image5.wmf" ContentType="image/x-wmf"/>
  <Override PartName="/ppt/media/image10.jpeg" ContentType="image/jpeg"/>
  <Override PartName="/ppt/media/image54.wmf" ContentType="image/x-wmf"/>
  <Override PartName="/ppt/media/image3.png" ContentType="image/png"/>
  <Override PartName="/ppt/media/image33.png" ContentType="image/png"/>
  <Override PartName="/ppt/media/image56.jpeg" ContentType="image/jpeg"/>
  <Override PartName="/ppt/media/image28.wmf" ContentType="image/x-wmf"/>
  <Override PartName="/ppt/media/image31.jpeg" ContentType="image/jpeg"/>
  <Override PartName="/ppt/media/image47.wmf" ContentType="image/x-wmf"/>
  <Override PartName="/ppt/media/image35.png" ContentType="image/png"/>
  <Override PartName="/ppt/media/image36.png" ContentType="image/png"/>
  <Override PartName="/ppt/media/image13.wmf" ContentType="image/x-wmf"/>
  <Override PartName="/ppt/media/image40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45.jpeg" ContentType="image/jpe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54E-C461-41B3-BBBC-C730E36C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A55-9621-4515-B745-E4DC78CC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equivalent circuit as long as your system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2D18-CB13-4BC0-96DF-46C9EF6E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three most used configu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1A1C-E587-4335-8EB2-B32A624D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the 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9AF-3FEF-4474-91F0-F19B7341E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“2” is a deduced fact! – very c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D9BA-4AA1-48A6-A4D1-5442D4FFD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using Nod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9A2-AB63-4520-9553-644EAEE1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using “Node equations” to solve for amplifier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V2 = V1 !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is at a “virtual ground” due to the high gai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in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49D-6BF9-4C3D-AC76-3165CE63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this result in Circui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040A-C24E-4AEF-A4E5-3C4C6D2F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dom needed as the gain is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348-0B8A-4584-B3E2-9A68C34E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resistance is determined by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is into account in your designs or use a “Buffer am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94F1-200E-466C-BF6D-58C5C980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75B-FBD6-4427-B18E-86E75550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8D5F-CD42-49AA-9E9C-DCA3C63B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1+ in the 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767-39B9-4238-816E-E33C5230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useful configuration to “buffer” sub-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5347-6137-4323-9CFD-E8CF81AF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resistors must be matched to maintain “balance”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226F-129B-4882-9AAD-53CF5E37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ful integrated circuit implementation of an almost idealized amplifier. Of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balance with respect to ground (important as it maintains symmetry when overdrive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pAmps also have differential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2A1D-6E43-4A96-8C51-8C2EE864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ful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989-6ABE-49D8-894D-EBA139BF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– maintain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3279-9930-4F8F-9D7D-356C78A7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introduced in AC Circuits (The second circuits course, EE221 at Fairfie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arlier days we use Analog computers using adders, integrators and multipl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Simulink (in MatLab) simulates an Analog computer using a digital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3E0-69E1-4073-814C-7F75D41F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ized OpAm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inite input impedance (no source loa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gain (A – watch out for oscil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 output impedance (can deliver power to a load), but real OpAmps are not Zero (741 has 75 ohm 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l input (high degree of “common mode” rej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ial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96D-1AD8-4773-8631-81FBFFE9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you can parallel the input capacitor to limit the nois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CE72-2F61-44FD-BAAC-F66F34DA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Integrated circuits are good, but not per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029F-11D9-4D82-BCE0-C61C20232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 problem due to the high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1D9-233C-4632-B4F3-1326353D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Amp tries to reject the common-mode input while amplifying the differential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DC6-7F94-42C2-9CF2-72C86310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matching in IC transistors (and resistors) can be very good if the designer takes care to analyze hea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DAC5-F2CC-4E07-9A41-D1D71246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 nulling is usually a manual adjustment – not great.  It can also be done by careful design of a feedback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587-2D9A-4186-8108-D228C182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OpAmp  specification sheet for terminal pin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950B-CA7A-4559-AAC7-FDFF4341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ompensation” is the attempt by the designer to maintain stability (no parasitic oscillation) in most uses of the Op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D8F-F2ED-4695-84B5-F9E4E1F2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mode rejection is the ratio between these two gains (usually stated in d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 = 20 lo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/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6640-25C4-4A16-AA52-ED25A8A8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“Half-Power” points of the transfe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16F-1A34-4A80-B07D-C98A2F72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can be either “clipping” (hard limiting) or soft saturation (smooth reduction in small signal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3D7-7D10-4BF6-ADCF-6600E84A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eding the slew rate can cause signal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C762-AD93-4D28-ACB9-1A173F05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Ideal” is only approached by IC Op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usually high enough to ign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ften higher than needed – follow by a low output impedance stage (emitter-foll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usually quit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usually high enough when not asking for too much gain with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W – needs to be evaluated i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056-505A-4AAF-B845-193E3228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F6A0-12BA-40AD-93A8-11030DE1A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24EF-7E51-490A-B2CB-30D1ACE8C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3EE5-9753-4FC3-BE92-55159847C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9E07-8C6E-4344-8BF7-3170EE2A6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4044-9D4B-4B7C-8B4E-C85B5DC76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11BE-D87B-49BD-8A8F-6356AB9DC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FEF1-34B5-4CC8-AD00-1ECDD4E84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EA89-ED55-447D-BDE5-0A48E196E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A462-EC01-4C2D-A913-4B5634067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8640-AB0C-4846-85D1-A3C21CFCA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F367-8184-4138-8530-EBBBE437A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6221-C5B6-4BC0-A4CC-A6D7FEC1A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079D-0C27-4F66-9235-0CA467C31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94" descr="oxford logo4"/>
          <p:cNvPicPr/>
          <p:nvPr/>
        </p:nvPicPr>
        <p:blipFill>
          <a:blip r:embed="rId2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pter #2: Signals and Amplifier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tial &amp; Common-Mode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mode in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447920" y="3559320"/>
          <a:ext cx="616104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59320"/>
                    <a:ext cx="616104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tial &amp; Common-Mode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se02F04"/>
          <p:cNvPicPr/>
          <p:nvPr/>
        </p:nvPicPr>
        <p:blipFill>
          <a:blip r:embed="rId1"/>
          <a:stretch/>
        </p:blipFill>
        <p:spPr>
          <a:xfrm>
            <a:off x="3124080" y="914400"/>
            <a:ext cx="5791320" cy="505764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2590920" y="1676520"/>
            <a:ext cx="34290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228600" y="870120"/>
          <a:ext cx="2230560" cy="507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70120"/>
                    <a:ext cx="223056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09480" y="2133720"/>
            <a:ext cx="30481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basic closed-loop op-amp configu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mploy op-amp and resistors al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inverting and 2) non-inverting op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wo basic closed-loop op amp configurations which employ op-amp and resistors alo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verting and non-inverting op a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ere we examine the inverting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se02F05"/>
          <p:cNvPicPr/>
          <p:nvPr/>
        </p:nvPicPr>
        <p:blipFill>
          <a:blip r:embed="rId1"/>
          <a:stretch/>
        </p:blipFill>
        <p:spPr>
          <a:xfrm>
            <a:off x="228600" y="1963800"/>
            <a:ext cx="8610480" cy="3827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52280" y="5883120"/>
            <a:ext cx="2971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is applied to 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800600" y="5197320"/>
            <a:ext cx="289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n-inverting input is gr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343400" y="914400"/>
            <a:ext cx="297180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acilitates “negative feedbac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62120" y="1981080"/>
            <a:ext cx="297180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gulates level of this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verting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172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analyz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-loop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verting configuration of an ideal op-am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gin at the output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fin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differential input must equal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short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t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grou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s 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6629400" y="4572000"/>
          <a:ext cx="2057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current in to inverting inp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 where this current flow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following slid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2514600" y="4067280"/>
          <a:ext cx="403056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067280"/>
                    <a:ext cx="40305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wo basic closed-loop op amp configurations which employ op-amp and resistors alo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verting and non-inverting op-a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ere we examine the inverting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se02F05"/>
          <p:cNvPicPr/>
          <p:nvPr/>
        </p:nvPicPr>
        <p:blipFill>
          <a:blip r:embed="rId1"/>
          <a:stretch/>
        </p:blipFill>
        <p:spPr>
          <a:xfrm>
            <a:off x="228600" y="1963800"/>
            <a:ext cx="8610480" cy="3827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8600" y="4874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verting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1447920" y="3276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447920" y="2620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495680" y="3276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49568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495680" y="23623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495680" y="175248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419720" y="2819520"/>
            <a:ext cx="2743200" cy="2286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erms of current flowing acros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itu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5127480" y="2181240"/>
          <a:ext cx="348300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2181240"/>
                    <a:ext cx="34830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Line 11"/>
          <p:cNvSpPr/>
          <p:nvPr/>
        </p:nvSpPr>
        <p:spPr>
          <a:xfrm flipV="1">
            <a:off x="6324480" y="50288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" y="5638680"/>
            <a:ext cx="8686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te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this expression is one of the fundamentals of electro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will w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erms of current flowing acro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of the inverting configuration. The circled numbers indicate the order of the analysis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57200" y="1963800"/>
            <a:ext cx="8077320" cy="4646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943600" y="2362320"/>
            <a:ext cx="2666880" cy="162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osed-loop gain 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=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5943600"/>
            <a:ext cx="449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inite Open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the gain expression change i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 loop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is not assumed to be infin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employ analysis similar to the previous, result is presented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905120" y="4038480"/>
          <a:ext cx="527364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38480"/>
                    <a:ext cx="52736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7"/>
          <p:cNvSpPr/>
          <p:nvPr/>
        </p:nvSpPr>
        <p:spPr>
          <a:xfrm flipV="1">
            <a:off x="6400800" y="5410080"/>
            <a:ext cx="5335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2743200" y="5029200"/>
            <a:ext cx="9907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248520" y="611676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52280" y="611676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deal op-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ining op-amps, resistors, and capacito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op-amp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ing precise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in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der what condition c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employed over the more complex expre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+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&lt;&lt;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impler expression may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5800" y="4267080"/>
          <a:ext cx="76960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696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9"/>
          <p:cNvSpPr/>
          <p:nvPr/>
        </p:nvSpPr>
        <p:spPr>
          <a:xfrm>
            <a:off x="0" y="5943600"/>
            <a:ext cx="449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0"/>
          <p:cNvSpPr/>
          <p:nvPr/>
        </p:nvSpPr>
        <p:spPr>
          <a:xfrm flipH="1" flipV="1">
            <a:off x="5790960" y="4952880"/>
            <a:ext cx="6094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2743200" y="4952880"/>
            <a:ext cx="7621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52280" y="612612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248520" y="617220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1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Inverting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Stateme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an inverting configu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-loop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cases below.  In each case, determine the percentage error in the magnitud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ve to the ideal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appears at the inverting input terminal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open 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hanges from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a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centage 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and Output Resistanc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verting op-amp?  How is it defined mathemat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(refer to math bel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does this sa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, for the combination of ideal op-amp and external resistors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will be finit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4038480" y="4572000"/>
          <a:ext cx="466272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4572000"/>
                    <a:ext cx="4662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8"/>
          <p:cNvSpPr/>
          <p:nvPr/>
        </p:nvSpPr>
        <p:spPr>
          <a:xfrm>
            <a:off x="1600200" y="5486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4724280"/>
            <a:ext cx="2895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assumes that ideal op-amp and external resistors are considered “one uni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2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Inverting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roblem Statemen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the circuit below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rive a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ression for the closed-loop gain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is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 this circuit to design a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verting amplifier with gain of 1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nput resistance of 1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at one cannot use any resistor with resistance larger than 1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c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pare your design with that based on traditional inverting configu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se02F08"/>
          <p:cNvPicPr/>
          <p:nvPr/>
        </p:nvPicPr>
        <p:blipFill>
          <a:blip r:embed="rId1"/>
          <a:stretch/>
        </p:blipFill>
        <p:spPr>
          <a:xfrm>
            <a:off x="4572000" y="2008080"/>
            <a:ext cx="4343400" cy="2944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572000" y="52578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2.8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rcuit for Example 2.2. The circled numbers indicate the sequence of the steps in the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2.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other Inverting Op-Amp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st resistor on may choose is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does one begin (in choosing the resistor values)?  Which resistor would you define to be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should be set as high as possible, therefore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ther resistor values should be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.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3886200" y="762120"/>
            <a:ext cx="4038480" cy="43434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934320" y="152280"/>
            <a:ext cx="2057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alibri"/>
              </a:rPr>
              <a:t>PART B: Use this circuit to design an inverting amplifier with gain of 100 and input resistance of 1Mohm.  Assume that one cannot use any resistor with resistance larger than 1Mohm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8600" y="228600"/>
            <a:ext cx="868680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9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current amplifier based on the circuit of Fig. 2.8. The amplifier delivers its output current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It has a current gain of (1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 zero input resistance, and an infinite output resistance. The load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however, must be floating (i.e., neither of its two terminals can be connected to groun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se02F09"/>
          <p:cNvPicPr/>
          <p:nvPr/>
        </p:nvPicPr>
        <p:blipFill>
          <a:blip r:embed="rId1"/>
          <a:stretch/>
        </p:blipFill>
        <p:spPr>
          <a:xfrm>
            <a:off x="1671480" y="2355840"/>
            <a:ext cx="579600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762120" y="2209680"/>
            <a:ext cx="3504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 Important Application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eighted Summ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weighted summ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a closed-loop amplifier configuration which provides an output voltage whi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ighted s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se02F10"/>
          <p:cNvPicPr/>
          <p:nvPr/>
        </p:nvPicPr>
        <p:blipFill>
          <a:blip r:embed="rId1"/>
          <a:stretch/>
        </p:blipFill>
        <p:spPr>
          <a:xfrm>
            <a:off x="914400" y="4033800"/>
            <a:ext cx="4343400" cy="2519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5486400" y="4876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weighted su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762120" y="2209680"/>
            <a:ext cx="3504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 Important Application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eighted Summ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weighted summ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a closed-loop amplifier configuration which provides an output voltage whi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ighted s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se02F10"/>
          <p:cNvPicPr/>
          <p:nvPr/>
        </p:nvPicPr>
        <p:blipFill>
          <a:blip r:embed="rId1"/>
          <a:stretch/>
        </p:blipFill>
        <p:spPr>
          <a:xfrm>
            <a:off x="914400" y="4033800"/>
            <a:ext cx="4343400" cy="2519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5486400" y="4876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weighted su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80880" y="4160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80880" y="46944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0880" y="52578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4419720" y="4952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200400" y="396252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523880" y="3809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3880" y="43894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1523880" y="4923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28600" y="182520"/>
            <a:ext cx="8686800" cy="648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-[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… 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0.27916 -0.55324 E">
                                      <p:cBhvr>
                                        <p:cTn id="16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52083 -0.64213 E">
                                      <p:cBhvr>
                                        <p:cTn id="16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75416 -0.71319 E">
                                      <p:cBhvr>
                                        <p:cTn id="16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875 -0.51319 E">
                                      <p:cBhvr>
                                        <p:cTn id="17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-0.17083 -0.53541 E">
                                      <p:cBhvr>
                                        <p:cTn id="17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0.32083 -0.59768 E">
                                      <p:cBhvr>
                                        <p:cTn id="17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55416 -0.67546 E">
                                      <p:cBhvr>
                                        <p:cTn id="17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44583 -0.67986 E">
                                      <p:cBhvr>
                                        <p:cTn id="17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Inverting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n-inverting op-amp configu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one which utilizes external resistances (like the previous) to effect voltage gain.  However, the polarity / phase of the output is same as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Non-Inve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se02F12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545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2860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non-inverting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581280" y="5791320"/>
            <a:ext cx="289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is applied to non-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8600" y="1981080"/>
            <a:ext cx="236232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verting input is grounded through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276720" y="641520"/>
            <a:ext cx="472428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ct as voltage divider, regulating negative feedback to the 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886200" y="3352680"/>
            <a:ext cx="1295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de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886200" y="4648320"/>
            <a:ext cx="1295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de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Non-Inverting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990720" y="1981080"/>
          <a:ext cx="798984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98984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sig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sophisticated op-amp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cluding summing amplifiers, instrumentation amplifiers, integrators, and differentia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-ide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op-amps and how these limit the performance of basic op-amp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 and Characteristics of Buffer / Voltage-Follower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e02F14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29606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228600" y="5791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he unity-gain buffer or follower amplifier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ts equivalent circui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 and Characteristics of Buffer / Voltage-Follower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se02F14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2960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"/>
          <p:cNvSpPr/>
          <p:nvPr/>
        </p:nvSpPr>
        <p:spPr>
          <a:xfrm>
            <a:off x="228600" y="5791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he unity-gain buffer or follower amplifier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ts equivalent circui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4920" y="380880"/>
            <a:ext cx="8534160" cy="185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 point?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buffer amp, output voltage is equal (in both magnitude and phase) to the input source.  However, any current supplied to the load is drawn from amplifier suppli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not the input sour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a closed-loop configuration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ponds to the difference between two sig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lied at its input and ideally rejects signals that are common to the tw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e amp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y only the differential signal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ject completely the common-mode input sign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However, a practical circuit will behave as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61722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3094200" y="5867280"/>
          <a:ext cx="29257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4200" y="5867280"/>
                    <a:ext cx="29257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04920" y="414972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i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990720" y="340848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ial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590920" y="190512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mmon-mod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828800" y="264636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mmon-mode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3962520" y="48769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410080" y="33526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5943600" y="25909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15"/>
          <p:cNvGraphicFramePr/>
          <p:nvPr/>
        </p:nvGraphicFramePr>
        <p:xfrm>
          <a:off x="2452680" y="5489640"/>
          <a:ext cx="417672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5489640"/>
                    <a:ext cx="4176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rejection ratio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CMRR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degree to which a differential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rejects” the common-m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CMRR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2973240" y="4648320"/>
          <a:ext cx="319896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3240" y="4648320"/>
                    <a:ext cx="319896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936800" y="3914640"/>
          <a:ext cx="50515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914640"/>
                    <a:ext cx="50515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" descr="se02F15"/>
          <p:cNvPicPr/>
          <p:nvPr/>
        </p:nvPicPr>
        <p:blipFill>
          <a:blip r:embed="rId3"/>
          <a:stretch/>
        </p:blipFill>
        <p:spPr>
          <a:xfrm>
            <a:off x="1270080" y="203832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228600" y="457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ing the input signals to a differential amplifier in terms of their differential and common-mode com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 amp itself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ature, why cannot it be used by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finit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refore cannot be used by itself.  One must devise a closed-loop configuration which facilitates this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4" descr="se02F16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714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228600" y="4874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6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difference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ng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ce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ar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acteristics of the differe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 to following equation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1722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Object 5"/>
          <p:cNvGraphicFramePr/>
          <p:nvPr/>
        </p:nvGraphicFramePr>
        <p:xfrm>
          <a:off x="1177920" y="3854520"/>
          <a:ext cx="6746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3854520"/>
                    <a:ext cx="6746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Shift in No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 this poin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open-l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ain of an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ideal / non-ideal closed-loop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of an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is poin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ideal gain of an op amp in a given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4"/>
          <p:cNvSpPr/>
          <p:nvPr/>
        </p:nvSpPr>
        <p:spPr>
          <a:xfrm rot="5400000">
            <a:off x="7531200" y="6091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3.33333E-006 1.38889 E">
                                      <p:cBhvr>
                                        <p:cTn id="256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172200"/>
            <a:ext cx="4495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1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p Amp Terminal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381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supp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supp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05400" y="2133720"/>
            <a:ext cx="4486320" cy="400032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2133720" y="2286000"/>
            <a:ext cx="28191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133720" y="3200400"/>
            <a:ext cx="27432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133720" y="3885840"/>
            <a:ext cx="46479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2133720" y="3581280"/>
            <a:ext cx="39621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133720" y="4952520"/>
            <a:ext cx="3962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18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the difference amplifi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w in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, what does this me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source impedance will have an effect on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cemen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buffers at the input termi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mplifiers which transmit the voltage level but draw minimal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can one ge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se amps than simply impedance mat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, may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2971800" y="1981080"/>
            <a:ext cx="32767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ever, can we get “more” from these amps than simply impedance match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yes, maybe additional voltage gain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1143000" y="2046240"/>
            <a:ext cx="6629400" cy="45831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opular circuit for an instrumentation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1219320" y="1981080"/>
            <a:ext cx="3352680" cy="4648320"/>
          </a:xfrm>
          <a:prstGeom prst="rect">
            <a:avLst/>
          </a:prstGeom>
          <a:solidFill>
            <a:srgbClr val="ffff99">
              <a:alpha val="25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19320" y="1371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ge #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447920" y="2209680"/>
            <a:ext cx="2895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nverting op amp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447920" y="5334120"/>
            <a:ext cx="2895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nverting op amp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4724280" y="1981080"/>
            <a:ext cx="3353040" cy="4648320"/>
          </a:xfrm>
          <a:prstGeom prst="rect">
            <a:avLst/>
          </a:prstGeom>
          <a:solidFill>
            <a:srgbClr val="ffff99">
              <a:alpha val="25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4724280" y="1371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stage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4952880" y="3809880"/>
            <a:ext cx="2895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difference op amp (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219320" y="403848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 (1 +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4952880" y="4952880"/>
            <a:ext cx="289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ff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= (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ff"/>
                </a:solidFill>
                <a:latin typeface="Calibri"/>
              </a:rPr>
              <a:t>d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can one ge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se amps than simply impedance mat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, may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533520" y="3763800"/>
          <a:ext cx="344628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63800"/>
                    <a:ext cx="34462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Line 6"/>
          <p:cNvSpPr/>
          <p:nvPr/>
        </p:nvSpPr>
        <p:spPr>
          <a:xfrm flipH="1">
            <a:off x="3657240" y="47242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572000" y="4419720"/>
            <a:ext cx="4267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advantag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instrumentation a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y high input resi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differential 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mmetric gain 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(assuming that </a:t>
            </a:r>
            <a:r>
              <a:rPr b="0" i="1" lang="en-US" sz="26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600" spc="-1" strike="noStrike" baseline="-25000">
                <a:solidFill>
                  <a:srgbClr val="80808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 and </a:t>
            </a:r>
            <a:r>
              <a:rPr b="0" i="1" lang="en-US" sz="26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600" spc="-1" strike="noStrike" baseline="-25000">
                <a:solidFill>
                  <a:srgbClr val="80808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 are match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isadvantage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instrumentation a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Calibri"/>
              </a:rPr>
              <a:t>Di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Calibri"/>
              </a:rPr>
              <a:t>Cm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equal in first stag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meaning that the common-mode and differential inputs are amplified with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equal gain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048120" y="1905120"/>
            <a:ext cx="312408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4726080" y="2730600"/>
            <a:ext cx="4113000" cy="2843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228600" y="2719440"/>
            <a:ext cx="4113360" cy="2843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0" y="1905120"/>
            <a:ext cx="9144000" cy="396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probl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76320" y="5638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572000" y="5638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33520" y="2971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533520" y="5257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3352320" y="4114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12"/>
          <p:cNvSpPr/>
          <p:nvPr/>
        </p:nvSpPr>
        <p:spPr>
          <a:xfrm rot="5400000">
            <a:off x="1142640" y="2895480"/>
            <a:ext cx="2590560" cy="2438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5105520" y="2971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5105520" y="5257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15"/>
          <p:cNvSpPr/>
          <p:nvPr/>
        </p:nvSpPr>
        <p:spPr>
          <a:xfrm rot="5400000">
            <a:off x="5676840" y="285732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16"/>
          <p:cNvSpPr/>
          <p:nvPr/>
        </p:nvSpPr>
        <p:spPr>
          <a:xfrm rot="5400000">
            <a:off x="5676840" y="483840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17"/>
          <p:cNvSpPr/>
          <p:nvPr/>
        </p:nvSpPr>
        <p:spPr>
          <a:xfrm>
            <a:off x="6248520" y="3124080"/>
            <a:ext cx="1447560" cy="91440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384" y="0"/>
                </a:lnTo>
                <a:lnTo>
                  <a:pt x="384" y="576"/>
                </a:lnTo>
                <a:lnTo>
                  <a:pt x="912" y="5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6172200" y="4267080"/>
            <a:ext cx="152388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528"/>
                </a:moveTo>
                <a:lnTo>
                  <a:pt x="432" y="528"/>
                </a:lnTo>
                <a:lnTo>
                  <a:pt x="432" y="0"/>
                </a:lnTo>
                <a:lnTo>
                  <a:pt x="96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19"/>
          <p:cNvSpPr/>
          <p:nvPr/>
        </p:nvSpPr>
        <p:spPr>
          <a:xfrm flipH="1">
            <a:off x="7848720" y="4114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0"/>
          <p:cNvSpPr/>
          <p:nvPr/>
        </p:nvSpPr>
        <p:spPr>
          <a:xfrm rot="5400000">
            <a:off x="7581240" y="384804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228600" y="2286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28600" y="4572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4800600" y="2286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800600" y="4572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219320" y="3886200"/>
            <a:ext cx="19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 x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5638680" y="2316240"/>
            <a:ext cx="114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7543800" y="3306600"/>
            <a:ext cx="114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&gt;&gt;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228600" y="2795760"/>
            <a:ext cx="4113360" cy="2842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048120" y="1981080"/>
            <a:ext cx="31240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533520" y="30481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533520" y="53341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8"/>
          <p:cNvSpPr/>
          <p:nvPr/>
        </p:nvSpPr>
        <p:spPr>
          <a:xfrm flipH="1">
            <a:off x="335232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"/>
          <p:cNvSpPr/>
          <p:nvPr/>
        </p:nvSpPr>
        <p:spPr>
          <a:xfrm rot="5400000">
            <a:off x="1142280" y="2971800"/>
            <a:ext cx="2590920" cy="2438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228600" y="2332080"/>
            <a:ext cx="2209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3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28600" y="5562720"/>
            <a:ext cx="2057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2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219320" y="3962520"/>
            <a:ext cx="19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10 x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4419720" y="3581280"/>
            <a:ext cx="4572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50 x (10.03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02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.5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 problem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30040" y="2795760"/>
            <a:ext cx="4113360" cy="28429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8120" y="1981080"/>
            <a:ext cx="31240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609480" y="3036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7"/>
          <p:cNvSpPr/>
          <p:nvPr/>
        </p:nvSpPr>
        <p:spPr>
          <a:xfrm>
            <a:off x="609480" y="5322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8"/>
          <p:cNvSpPr/>
          <p:nvPr/>
        </p:nvSpPr>
        <p:spPr>
          <a:xfrm>
            <a:off x="1752480" y="3189240"/>
            <a:ext cx="1447920" cy="91440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384" y="0"/>
                </a:lnTo>
                <a:lnTo>
                  <a:pt x="384" y="576"/>
                </a:lnTo>
                <a:lnTo>
                  <a:pt x="912" y="5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1676520" y="4332240"/>
            <a:ext cx="1523880" cy="83808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528"/>
                </a:moveTo>
                <a:lnTo>
                  <a:pt x="432" y="528"/>
                </a:lnTo>
                <a:lnTo>
                  <a:pt x="432" y="0"/>
                </a:lnTo>
                <a:lnTo>
                  <a:pt x="96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10"/>
          <p:cNvSpPr/>
          <p:nvPr/>
        </p:nvSpPr>
        <p:spPr>
          <a:xfrm flipH="1">
            <a:off x="3352320" y="4179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914400" y="3657600"/>
            <a:ext cx="114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2819520" y="3246480"/>
            <a:ext cx="114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28600" y="2332080"/>
            <a:ext cx="2209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3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228600" y="5562720"/>
            <a:ext cx="2057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2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3657600" y="2057400"/>
            <a:ext cx="5486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 x 10.03 = 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3657600" y="5638680"/>
            <a:ext cx="5486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 x 10.02 = 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419720" y="3581280"/>
            <a:ext cx="4572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5 x (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0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blem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18"/>
          <p:cNvSpPr/>
          <p:nvPr/>
        </p:nvSpPr>
        <p:spPr>
          <a:xfrm flipH="1">
            <a:off x="2438280" y="2362320"/>
            <a:ext cx="106704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19"/>
          <p:cNvSpPr/>
          <p:nvPr/>
        </p:nvSpPr>
        <p:spPr>
          <a:xfrm flipH="1" flipV="1">
            <a:off x="2438280" y="5257440"/>
            <a:ext cx="1067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20"/>
          <p:cNvSpPr/>
          <p:nvPr/>
        </p:nvSpPr>
        <p:spPr>
          <a:xfrm rot="5400000">
            <a:off x="1180440" y="292248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21"/>
          <p:cNvSpPr/>
          <p:nvPr/>
        </p:nvSpPr>
        <p:spPr>
          <a:xfrm rot="5400000">
            <a:off x="1180800" y="4903920"/>
            <a:ext cx="60948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22"/>
          <p:cNvSpPr/>
          <p:nvPr/>
        </p:nvSpPr>
        <p:spPr>
          <a:xfrm rot="5400000">
            <a:off x="3085920" y="391284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172200"/>
            <a:ext cx="4343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instrumentation 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input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differential 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metric gain 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(assuming that </a:t>
            </a: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are match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sadvantag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strumentation 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re equal in first st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eaning that the common-mode and differential inputs are amplified with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al gai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ed for mat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if two op amps which comprise stage #1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perfectly matc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e will see unintended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fix th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alleviate these disadvantage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connect the two resisto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nnected to no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ground, making the configura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floating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natu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following slid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fined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input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nfinite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output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zero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l 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is constant from dc to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3581280" y="2793960"/>
          <a:ext cx="19558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793960"/>
                    <a:ext cx="1955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Line 5"/>
          <p:cNvSpPr/>
          <p:nvPr/>
        </p:nvSpPr>
        <p:spPr>
          <a:xfrm flipV="1">
            <a:off x="4343400" y="320004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6095880"/>
            <a:ext cx="8763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, is an amplifier with infinite gain of any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4560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  <p:sp>
        <p:nvSpPr>
          <p:cNvPr id="421" name="Oval 7"/>
          <p:cNvSpPr/>
          <p:nvPr/>
        </p:nvSpPr>
        <p:spPr>
          <a:xfrm>
            <a:off x="1676520" y="3200400"/>
            <a:ext cx="1752480" cy="2209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228600" y="152280"/>
            <a:ext cx="8686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opular circuit for an instrumentation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circui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onnection between node X and ground removed and the two resistor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umped together. This simple wiring change dramatically improves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analyze this circ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sho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exists across terminals of op amp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the resistor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0" name="Object 5"/>
          <p:cNvGraphicFramePr/>
          <p:nvPr/>
        </p:nvGraphicFramePr>
        <p:xfrm>
          <a:off x="5486400" y="228600"/>
          <a:ext cx="2741760" cy="63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"/>
                    <a:ext cx="274176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9"/>
          <p:cNvSpPr/>
          <p:nvPr/>
        </p:nvSpPr>
        <p:spPr>
          <a:xfrm flipV="1">
            <a:off x="4343400" y="990720"/>
            <a:ext cx="1371600" cy="12952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10"/>
          <p:cNvSpPr/>
          <p:nvPr/>
        </p:nvSpPr>
        <p:spPr>
          <a:xfrm flipV="1">
            <a:off x="4343400" y="990720"/>
            <a:ext cx="1371600" cy="12952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11"/>
          <p:cNvSpPr/>
          <p:nvPr/>
        </p:nvSpPr>
        <p:spPr>
          <a:xfrm flipV="1">
            <a:off x="4038480" y="3657600"/>
            <a:ext cx="137160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12"/>
          <p:cNvSpPr/>
          <p:nvPr/>
        </p:nvSpPr>
        <p:spPr>
          <a:xfrm flipV="1">
            <a:off x="4038480" y="3657600"/>
            <a:ext cx="137160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4343400" y="5029200"/>
            <a:ext cx="1219320" cy="6094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4343400" y="5029200"/>
            <a:ext cx="1219320" cy="6094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0" y="2133720"/>
            <a:ext cx="45720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600200" y="403848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5"/>
          <p:cNvSpPr/>
          <p:nvPr/>
        </p:nvSpPr>
        <p:spPr>
          <a:xfrm flipV="1">
            <a:off x="2362320" y="396252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4572000" y="2865600"/>
            <a:ext cx="1295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276720" y="5227560"/>
            <a:ext cx="1295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590920" y="3200400"/>
            <a:ext cx="0" cy="4572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11"/>
          <p:cNvSpPr/>
          <p:nvPr/>
        </p:nvSpPr>
        <p:spPr>
          <a:xfrm flipV="1">
            <a:off x="2590920" y="4952880"/>
            <a:ext cx="0" cy="4572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990720" y="2590920"/>
            <a:ext cx="1676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hort-c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3505320" y="411480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rms of input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Object 5"/>
          <p:cNvGraphicFramePr/>
          <p:nvPr/>
        </p:nvGraphicFramePr>
        <p:xfrm>
          <a:off x="4114800" y="762120"/>
          <a:ext cx="45068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762120"/>
                    <a:ext cx="45068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revised instrumentation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4832280" y="1371600"/>
          <a:ext cx="393084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2280" y="1371600"/>
                    <a:ext cx="393084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Line 10"/>
          <p:cNvSpPr/>
          <p:nvPr/>
        </p:nvSpPr>
        <p:spPr>
          <a:xfrm>
            <a:off x="4343400" y="2362320"/>
            <a:ext cx="45720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4343400" y="2362320"/>
            <a:ext cx="45720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3962520" y="3276720"/>
            <a:ext cx="1371600" cy="1523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3962520" y="3276720"/>
            <a:ext cx="1371600" cy="1523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tegrators and Differentia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grator / differentiator amplifi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one which output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gral or deriv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 sig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0" y="1981080"/>
            <a:ext cx="4572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5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Inverting Configur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General Impeda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fer 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inverting op amp change if the feedback and input impedances are not purely resist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not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4" descr="se02F22"/>
          <p:cNvPicPr/>
          <p:nvPr/>
        </p:nvPicPr>
        <p:blipFill>
          <a:blip r:embed="rId1"/>
          <a:stretch/>
        </p:blipFill>
        <p:spPr>
          <a:xfrm>
            <a:off x="1596960" y="4114800"/>
            <a:ext cx="5946840" cy="2392200"/>
          </a:xfrm>
          <a:prstGeom prst="rect">
            <a:avLst/>
          </a:prstGeom>
          <a:ln w="0">
            <a:noFill/>
          </a:ln>
        </p:spPr>
      </p:pic>
      <p:sp>
        <p:nvSpPr>
          <p:cNvPr id="475" name="Oval 6"/>
          <p:cNvSpPr/>
          <p:nvPr/>
        </p:nvSpPr>
        <p:spPr>
          <a:xfrm>
            <a:off x="6095880" y="4724280"/>
            <a:ext cx="1676520" cy="152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p-Amp Configuration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circuit on next slide p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expression for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fer functi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at the transfer function is of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low-pass ST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expressing the transfer function in standard form of Table 1.2, fi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-gain and 3dB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0" y="1905120"/>
            <a:ext cx="6629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2590920" y="1981080"/>
            <a:ext cx="3886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p-Amp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4" descr="se02F23"/>
          <p:cNvPicPr/>
          <p:nvPr/>
        </p:nvPicPr>
        <p:blipFill>
          <a:blip r:embed="rId1"/>
          <a:stretch/>
        </p:blipFill>
        <p:spPr>
          <a:xfrm>
            <a:off x="2057400" y="200484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 rot="5400000">
            <a:off x="6170760" y="319896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Example 2.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gai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defined be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input characteristic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finite impe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output characteristic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zero impe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3316320" y="2755800"/>
          <a:ext cx="237492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6320" y="2755800"/>
                    <a:ext cx="2374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se02F03"/>
          <p:cNvPicPr/>
          <p:nvPr/>
        </p:nvPicPr>
        <p:blipFill>
          <a:blip r:embed="rId3"/>
          <a:stretch/>
        </p:blipFill>
        <p:spPr>
          <a:xfrm>
            <a:off x="1023840" y="2057400"/>
            <a:ext cx="7053480" cy="45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inverting op-amp be adapt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orm integ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as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2525760" y="1909800"/>
            <a:ext cx="7304040" cy="26877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2"/>
          <p:cNvSpPr/>
          <p:nvPr/>
        </p:nvSpPr>
        <p:spPr>
          <a:xfrm>
            <a:off x="22860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iller or inverting integrato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equency response of the integ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6934320" y="2438280"/>
            <a:ext cx="3809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Object 9"/>
          <p:cNvGraphicFramePr/>
          <p:nvPr/>
        </p:nvGraphicFramePr>
        <p:xfrm>
          <a:off x="344520" y="4157640"/>
          <a:ext cx="841860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4157640"/>
                    <a:ext cx="84186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is configuration (related to dc gain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dc frequency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0), gain i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= 1 /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placing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ery large resistor in parallel with the capaci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egative feedback is employed to make dc gain “finit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iller integrator with a large resi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nected in parallel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rder to provide negative feedback and hence finite gain at d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351000" y="5129280"/>
          <a:ext cx="833580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5129280"/>
                    <a:ext cx="8335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Picture 4" descr="se02F25"/>
          <p:cNvPicPr/>
          <p:nvPr/>
        </p:nvPicPr>
        <p:blipFill>
          <a:blip r:embed="rId3"/>
          <a:stretch/>
        </p:blipFill>
        <p:spPr>
          <a:xfrm>
            <a:off x="2895480" y="1963800"/>
            <a:ext cx="3300480" cy="27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ler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ller integrato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response of a Miller Integrator to input pulse of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ight and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tegrator capacitor is shunted by a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istor, how will the response be modifi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op amp will saturate at +/- 13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0" y="1905120"/>
            <a:ext cx="44956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apt integrator to perform differenti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r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cations of resistors and capac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4113360" cy="2227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"/>
          <p:cNvSpPr/>
          <p:nvPr/>
        </p:nvSpPr>
        <p:spPr>
          <a:xfrm>
            <a:off x="23623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i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0" y="1905120"/>
            <a:ext cx="44956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4113360" cy="22273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"/>
          <p:cNvSpPr/>
          <p:nvPr/>
        </p:nvSpPr>
        <p:spPr>
          <a:xfrm>
            <a:off x="23623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i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3" name="Object 7"/>
          <p:cNvGraphicFramePr/>
          <p:nvPr/>
        </p:nvGraphicFramePr>
        <p:xfrm>
          <a:off x="685800" y="1978200"/>
          <a:ext cx="74041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78200"/>
                    <a:ext cx="7404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ltering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ass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gnitude of transfer func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hase of transfer func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tor time-consta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frequency at which unity gain occurs and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differentia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tor acts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xhibiting large changes in output from small (but fast) changes in input.  As such,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rely used in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Imperfe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be discussed moving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c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e NOT consider an op amp to be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what effect will that have on ope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maginary voltage sour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eries with the user-supplied input, which effects an op amp output even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4" descr="se02F28"/>
          <p:cNvPicPr/>
          <p:nvPr/>
        </p:nvPicPr>
        <p:blipFill>
          <a:blip r:embed="rId1"/>
          <a:stretch/>
        </p:blipFill>
        <p:spPr>
          <a:xfrm>
            <a:off x="4648320" y="2090880"/>
            <a:ext cx="4213080" cy="32432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4724280" y="5365800"/>
            <a:ext cx="4191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8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model for an op amp with input offset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152280" y="5867280"/>
            <a:ext cx="4496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at will happen when short is appli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495288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mplifier’s input is composed o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w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tial inp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difference between inputs at inverting and non-inverting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present at both inverting and non-inverting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7"/>
          <p:cNvGraphicFramePr/>
          <p:nvPr/>
        </p:nvGraphicFramePr>
        <p:xfrm>
          <a:off x="1587600" y="4572000"/>
          <a:ext cx="5938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4572000"/>
                    <a:ext cx="593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u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avoid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smat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ifferential stage of the op amp.  It is impossibl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ectly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magnit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1" name="Object 5"/>
          <p:cNvGraphicFramePr/>
          <p:nvPr/>
        </p:nvGraphicFramePr>
        <p:xfrm>
          <a:off x="5791320" y="3200400"/>
          <a:ext cx="2998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200400"/>
                    <a:ext cx="299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u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avoid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smat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ifferential stage of the op amp.  It is impossibl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ectly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magnit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91320" y="3200400"/>
          <a:ext cx="2998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200400"/>
                    <a:ext cx="299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Line 5"/>
          <p:cNvSpPr/>
          <p:nvPr/>
        </p:nvSpPr>
        <p:spPr>
          <a:xfrm>
            <a:off x="7162920" y="14479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228600" y="152280"/>
            <a:ext cx="8686800" cy="170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relationship between offset voltag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nd offset dc output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Ou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pplies to both inverting and non-inverting op amp.  However, only if one assumes that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present at non-inverting inp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ffset be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ffset nulling terminal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riable resis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f properly set) may be used to reduce the asymmetry present and, in turn, reduce off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pacitive cou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ries capacitor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between the source and op amp may be used to reduce offset, although it will also filter out dc sig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utput dc offset voltage of an op-amp can be trimmed to zero by connecting a potentiometer to the two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offset-nulling termin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wiper of the potentiometer is connected to the negative supply of the op amp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se02F30"/>
          <p:cNvPicPr/>
          <p:nvPr/>
        </p:nvPicPr>
        <p:blipFill>
          <a:blip r:embed="rId1"/>
          <a:stretch/>
        </p:blipFill>
        <p:spPr>
          <a:xfrm>
            <a:off x="1068480" y="1954080"/>
            <a:ext cx="700884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capacitively-coupl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ing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equivalent circuit for determining its dc output offset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se02F31"/>
          <p:cNvPicPr/>
          <p:nvPr/>
        </p:nvPicPr>
        <p:blipFill>
          <a:blip r:embed="rId1"/>
          <a:stretch/>
        </p:blipFill>
        <p:spPr>
          <a:xfrm>
            <a:off x="228600" y="2927520"/>
            <a:ext cx="8686800" cy="2787480"/>
          </a:xfrm>
          <a:prstGeom prst="rect">
            <a:avLst/>
          </a:prstGeom>
          <a:ln w="0">
            <a:noFill/>
          </a:ln>
        </p:spPr>
      </p:pic>
      <p:sp>
        <p:nvSpPr>
          <p:cNvPr id="563" name="Line 8"/>
          <p:cNvSpPr/>
          <p:nvPr/>
        </p:nvSpPr>
        <p:spPr>
          <a:xfrm>
            <a:off x="762120" y="22860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52280" y="2071800"/>
            <a:ext cx="3581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signals cannot pas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 which must be su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op-amp inputs for proper oper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is current is zer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ce between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oth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se02F32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3996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4724280" y="457200"/>
            <a:ext cx="41911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p-amp input bias currents represented by two current sourc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 which must be su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op-amp inputs for proper oper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is current is zer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ce between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oth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se02F32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3996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724280" y="457200"/>
            <a:ext cx="41911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p-amp input bias currents represented by two current sourc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Object 7"/>
          <p:cNvGraphicFramePr/>
          <p:nvPr/>
        </p:nvGraphicFramePr>
        <p:xfrm>
          <a:off x="914400" y="685800"/>
          <a:ext cx="730404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85800"/>
                    <a:ext cx="73040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05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bias be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lacem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resistor between non-inverting input and 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arallel conne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5526000" y="2133720"/>
          <a:ext cx="255132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0" y="2133720"/>
                    <a:ext cx="255132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fferential open-loop gain of an op-amp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infin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nite and decrea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high at dc, b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lls off 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rting from 10H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se02F39"/>
          <p:cNvPicPr/>
          <p:nvPr/>
        </p:nvPicPr>
        <p:blipFill>
          <a:blip r:embed="rId1"/>
          <a:stretch/>
        </p:blipFill>
        <p:spPr>
          <a:xfrm>
            <a:off x="4267080" y="2209680"/>
            <a:ext cx="4419720" cy="29577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4572000" y="5257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9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loop gain of a typical general-purpose internally compensated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5334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compens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presence of internal passive components (caps) which cause op-amp to demonstr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C low-pass respo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requency compens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process of modifying the open-loop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 s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4" descr="se02F39"/>
          <p:cNvPicPr/>
          <p:nvPr/>
        </p:nvPicPr>
        <p:blipFill>
          <a:blip r:embed="rId1"/>
          <a:stretch/>
        </p:blipFill>
        <p:spPr>
          <a:xfrm>
            <a:off x="5638680" y="2506680"/>
            <a:ext cx="3198960" cy="214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5638680" y="4800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9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loop gain of a typical general-purpose internally compensated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onents of gain exis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tial ga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gain applied to differential inpu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applied to common-mode inpu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609480" y="4648320"/>
          <a:ext cx="79344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648320"/>
                    <a:ext cx="79344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of an internally compensated op-am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expressed as shown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8" name="Object 5"/>
          <p:cNvGraphicFramePr/>
          <p:nvPr/>
        </p:nvGraphicFramePr>
        <p:xfrm>
          <a:off x="457200" y="1994040"/>
          <a:ext cx="818208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4040"/>
                    <a:ext cx="818208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Freeform 6"/>
          <p:cNvSpPr/>
          <p:nvPr/>
        </p:nvSpPr>
        <p:spPr>
          <a:xfrm>
            <a:off x="7162920" y="5715000"/>
            <a:ext cx="1218960" cy="609480"/>
          </a:xfrm>
          <a:custGeom>
            <a:avLst/>
            <a:gdLst/>
            <a:ahLst/>
            <a:rect l="l" t="t" r="r" b="b"/>
            <a:pathLst>
              <a:path w="624" h="96">
                <a:moveTo>
                  <a:pt x="0" y="96"/>
                </a:moveTo>
                <a:lnTo>
                  <a:pt x="624" y="96"/>
                </a:lnTo>
                <a:lnTo>
                  <a:pt x="6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05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w can we create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ore accurate descrip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closed loop gain for an inverting-type op-amp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closed-loop g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an inverting amplifier with finite open-loop gain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sert frequency-depend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scription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m last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&gt;&gt; 1 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4656240" y="990720"/>
          <a:ext cx="4259160" cy="52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990720"/>
                    <a:ext cx="425916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Line 10"/>
          <p:cNvSpPr/>
          <p:nvPr/>
        </p:nvSpPr>
        <p:spPr>
          <a:xfrm flipV="1">
            <a:off x="4191120" y="1523520"/>
            <a:ext cx="457200" cy="21337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1"/>
          <p:cNvSpPr/>
          <p:nvPr/>
        </p:nvSpPr>
        <p:spPr>
          <a:xfrm flipV="1">
            <a:off x="4191120" y="1523520"/>
            <a:ext cx="457200" cy="21337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2"/>
          <p:cNvSpPr/>
          <p:nvPr/>
        </p:nvSpPr>
        <p:spPr>
          <a:xfrm flipV="1">
            <a:off x="4038480" y="2590920"/>
            <a:ext cx="609840" cy="213336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13"/>
          <p:cNvSpPr/>
          <p:nvPr/>
        </p:nvSpPr>
        <p:spPr>
          <a:xfrm flipV="1">
            <a:off x="4038480" y="2590920"/>
            <a:ext cx="609840" cy="21333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038480" y="5334120"/>
            <a:ext cx="60984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5"/>
          <p:cNvSpPr/>
          <p:nvPr/>
        </p:nvSpPr>
        <p:spPr>
          <a:xfrm flipV="1">
            <a:off x="4038480" y="5334120"/>
            <a:ext cx="60984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we create a more accurate description of closed loop gain for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oth inverting and non-inverting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-am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838080" y="3886200"/>
          <a:ext cx="738684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86200"/>
                    <a:ext cx="738684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3</a:t>
            </a:r>
            <a:r>
              <a:rPr b="1" i="1" lang="en-US" sz="2800" spc="-1" strike="noStrike">
                <a:solidFill>
                  <a:srgbClr val="3333ff"/>
                </a:solidFill>
                <a:latin typeface="Calibri"/>
              </a:rPr>
              <a:t>dB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 frequency at which the amplifier gai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ttenuated 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maximum (aka. dc )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Object 4"/>
          <p:cNvGraphicFramePr/>
          <p:nvPr/>
        </p:nvGraphicFramePr>
        <p:xfrm>
          <a:off x="5170320" y="2895480"/>
          <a:ext cx="2449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0320" y="2895480"/>
                    <a:ext cx="2449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arge-Sign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 of Op-Amp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8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 Voltage 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upply is +/- 1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saturate around +/- 1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14840" y="2057400"/>
            <a:ext cx="4300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8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utput Current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rent of op-amp, including that which facilitates feedback, cannot excee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approximat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lew r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maximum rate of change of an op-amp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be problemat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lew rate is less than rate of change of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9" name="Object 4"/>
          <p:cNvGraphicFramePr/>
          <p:nvPr/>
        </p:nvGraphicFramePr>
        <p:xfrm>
          <a:off x="5867280" y="3173400"/>
          <a:ext cx="206532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173400"/>
                    <a:ext cx="206532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slewing occ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hort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 of the op- amp is limi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o the output at very high frequencies is attenua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se02F43"/>
          <p:cNvPicPr/>
          <p:nvPr/>
        </p:nvPicPr>
        <p:blipFill>
          <a:blip r:embed="rId1"/>
          <a:stretch/>
        </p:blipFill>
        <p:spPr>
          <a:xfrm>
            <a:off x="4572000" y="2590920"/>
            <a:ext cx="4383000" cy="31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ll-Pow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-amp slewing will ca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linear 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inusoidal wavefor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e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8" name="Object 4"/>
          <p:cNvGraphicFramePr/>
          <p:nvPr/>
        </p:nvGraphicFramePr>
        <p:xfrm>
          <a:off x="5257800" y="1981080"/>
          <a:ext cx="320832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81080"/>
                    <a:ext cx="320832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0" name="Picture 4" descr="se02F44"/>
          <p:cNvPicPr/>
          <p:nvPr/>
        </p:nvPicPr>
        <p:blipFill>
          <a:blip r:embed="rId3"/>
          <a:stretch/>
        </p:blipFill>
        <p:spPr>
          <a:xfrm>
            <a:off x="5030640" y="4343400"/>
            <a:ext cx="342756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ll-Pow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6653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ull-power bandwid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the maximum frequency at which amplitude of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nusoidal input and output are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aximum output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equal to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verse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ists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M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beyo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utput may be defined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4" name="Object 4"/>
          <p:cNvGraphicFramePr/>
          <p:nvPr/>
        </p:nvGraphicFramePr>
        <p:xfrm>
          <a:off x="6794640" y="1986120"/>
          <a:ext cx="189216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4640" y="1986120"/>
                    <a:ext cx="18921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C op-amp is a versatile circuit building block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easy to apply, and the performance of op-amp circuits closely matches theoretical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op-amp terminals are the inverting terminal (1), the non-inverting input terminal (2), the output terminal (3), the positive-supply terminal (4) to be connected to the positive power supply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, and the negative-supply terminal (5) to be connected to the negative supply (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ble 2.1: Characteristics of Ideal Op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input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output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common-mode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ommon-mode rej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open-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infin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deal op-amp responds only to the difference input signal, that is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It yields an output between terminals 3 and ground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n-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ssumed to be infinite.  The 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infinite.  The out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ssumed to be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is applied to an op-amp by connecting a passive component between its output terminal and its inverting (aka. negative) input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causes the voltage between the two input terminals to become very small, and ideally zero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ly, a virtual short is said to exist between the two input terminals.  If the positive input terminal is connected to ground, a virtual ground appears on the negative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two most important assumptions in the analysis of op-amp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suming negative feedback exists,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input terminals of the op-amp are at the same voltage potent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current flows into the op-amp input termi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negative feedback applied and the loop closed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is almost entirely determined by external component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1+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non-inverting closed-loop configuration features a very high input resistanc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A special case is the unity-gain follower, frequently employed as a buffer amplifier to connect a high-resistance source to a low-resistance 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difference amplifier of Figure 2.16 is designed wit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resulting i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4" descr="se02F16"/>
          <p:cNvPicPr/>
          <p:nvPr/>
        </p:nvPicPr>
        <p:blipFill>
          <a:blip r:embed="rId1"/>
          <a:stretch/>
        </p:blipFill>
        <p:spPr>
          <a:xfrm>
            <a:off x="6553080" y="3048120"/>
            <a:ext cx="2362320" cy="162396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nstrumentation amplifier of Figure 2.20(b) is a very popular circuit.  It provid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(1+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It is usually designe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lected to provide the required gain.  If an adjustable gain is needed, par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made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6488280" y="3395520"/>
            <a:ext cx="2503440" cy="11764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20(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vert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ler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Figure 2.24 is a popular circuit, frequently employed in analog signal-processing functions such as filters (Chapter 16) and oscillators (Chapter 1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offset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magnitude of dc voltage that when applied between the op-amp input terminals, with appropriate polarity, reduces the dc offset at the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441936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9144000" y="2819520"/>
            <a:ext cx="18288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4:52:40Z</dcterms:modified>
  <cp:revision>417</cp:revision>
  <dc:subject/>
  <dc:title>Slide 1</dc:title>
</cp:coreProperties>
</file>